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5CE-6D67-4DAB-AC22-643F59A9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417-9391-4A47-85C1-5BDBEFED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2EB7-F00E-4810-A59B-C7B79233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A97-9A60-4FD3-9AB1-8218070C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2F422-0D7C-4FF5-A2F2-6FC9C100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4AA21-68AB-422D-92A4-AB6CBDD1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2FAD0-9922-4EAA-80B8-509E4CA2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6AD67-418B-43BA-9F1A-2DFCF873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7EBE0-B200-416B-ADE9-BA91D1A8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02AA8-CD5C-4E3D-9CB8-4ECD787D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0CAF1-08D1-4925-AC26-CF33745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71B-D327-47E8-B106-927659D4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25239-B93E-4A87-950F-0ED33AE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6DD75-65CA-473E-BBC5-19F137B7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B5347-449C-40AC-97BE-5C38AF26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E3C89-411E-4ACD-BAD4-D0F3A47B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3C593-E413-4104-96E5-444E8A3C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9F2-5A4D-4321-9D42-EAF150F6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3C8-8C45-45EC-8B29-325D6FD3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6A7-FB59-4D97-AD54-9A84F478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4E3-50A2-486B-8240-6C69E3B0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BAC-43CE-496E-BB4D-980DF6D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10D3-7AEB-42D2-8724-7768AE88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B15-7FD8-4109-B3CE-B9C7E49D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10D6-6F9D-4770-90ED-4EDE963295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E6EC-AA2B-4FD6-BD27-7478CC6AE4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dsc.discovery.com/convergence/planet-earth/game/game.html" TargetMode="External"/><Relationship Id="rId2" Type="http://schemas.openxmlformats.org/officeDocument/2006/relationships/hyperlink" Target="http://dsc.discovery.com/convergence/planet-earth/game/game.html" TargetMode="External"/><Relationship Id="rId3" Type="http://schemas.openxmlformats.org/officeDocument/2006/relationships/hyperlink" Target="http://dsc.discovery.com/convergence/planet-earth/game/game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sc.discovery.com/convergence/planet-earth/game/game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3e3ff"/>
                </a:solidFill>
                <a:latin typeface="Arial"/>
                <a:ea typeface="David Transparent"/>
              </a:rPr>
              <a:t>IRS Project Presenta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By Topaz 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playing Risk</a:t>
            </a:r>
            <a:r>
              <a:rPr b="0" lang="en-GB" sz="3200" spc="-1" strike="noStrike">
                <a:solidFill>
                  <a:srgbClr val="ffffff"/>
                </a:solidFill>
                <a:latin typeface="MS Reference Specialty"/>
                <a:ea typeface="MS Reference Specialty"/>
              </a:rPr>
              <a:t>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a person wiser in making decis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the Planet Earth game will help a person make better decisions at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ke Aw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 hope that people will win board games like Risk™ and Mono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 hope that this will encourage people to play more educational games than “useless” games like y8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erimental 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1) - Go to </a:t>
            </a: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dsc.discovery.com/convergence/planet-earth/game/gam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2) - Play 1 time, tell me result (9916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3) - Practise Risk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4) - Play </a:t>
            </a: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dsc.discovery.com/convergence/planet-earth/game/game.htm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5) - Tell me the result (1095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6) - Invite me to pay Risk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7) - Play </a:t>
            </a: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dsc.discovery.com/convergence/planet-earth/game/game.htm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8) - Tell me result (11082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9) – Get the average(10652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ll use Jiajun for my experi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mpt numb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et Earth game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™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1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5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8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68360" y="1628640"/>
            <a:ext cx="273528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alysis &amp; Interpret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ajun got better at the Planet Earth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ajun got better at Risk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tter one is at The Planet Earth game, the better he will be at Risk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dsc.discovery.com/convergence/planet-earth/game/game.html</a:t>
            </a:r>
            <a:r>
              <a:rPr b="0" lang="en-S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14880" y="3198960"/>
            <a:ext cx="2514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3:36:30Z</dcterms:created>
  <dc:creator>topaz tan</dc:creator>
  <dc:description/>
  <dc:language>en-US</dc:language>
  <cp:lastModifiedBy>topaz tan</cp:lastModifiedBy>
  <dcterms:modified xsi:type="dcterms:W3CDTF">2010-08-09T09:32:48Z</dcterms:modified>
  <cp:revision>3</cp:revision>
  <dc:subject/>
  <dc:title>IRS Project Presentation</dc:title>
</cp:coreProperties>
</file>